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8FE5-AD22-40A3-A150-25A1BB6D844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EF98-8176-4D3A-9299-5566C7A4919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7FA-5A04-4AFE-A9C8-A1D7360B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921-BBC3-46AB-A3B4-D00D32DB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DD6-67B7-417B-B2AE-8023EA7E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BC6-36DC-47C6-9110-BBA57510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8D5-7E4E-4637-80CE-0E64919C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8CC-4989-48DB-8716-803C035A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8C7-A6B5-47D2-A548-EE041B35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43D-03F5-4B90-A9D3-EF046416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FCA-D0B7-4724-896B-7B447747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5D0-E048-4435-8E0C-7F2AAC65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619-E54C-4A25-8EC7-68A34439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938-6A0C-42DF-BB02-C5F9C187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F4CF-7E0C-4B78-A039-5A5D0CDAD73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magine 5" descr="http://www.iiscrocetticerulli.it/News/Orientamento/OpenDays3.gif"/>
          <p:cNvPicPr/>
          <p:nvPr/>
        </p:nvPicPr>
        <p:blipFill>
          <a:blip r:embed="rId1"/>
          <a:stretch/>
        </p:blipFill>
        <p:spPr>
          <a:xfrm>
            <a:off x="1500120" y="2286000"/>
            <a:ext cx="5786640" cy="4143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357200" y="506520"/>
            <a:ext cx="61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erd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ì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24 gennaio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f81bd"/>
                </a:solidFill>
                <a:latin typeface="Berlin Sans FB Demi"/>
                <a:ea typeface="Times New Roman"/>
              </a:rPr>
              <a:t>dalle ore 14:30 alle ore 16: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f81bd"/>
                </a:solidFill>
                <a:latin typeface="Berlin Sans FB Demi"/>
                <a:ea typeface="Times New Roman"/>
              </a:rPr>
              <a:t>nelle sedi d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f81bd"/>
                </a:solidFill>
                <a:latin typeface="Berlin Sans FB Demi"/>
                <a:ea typeface="Times New Roman"/>
              </a:rPr>
              <a:t>Cremeno, Piazza del Consiglio,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f81bd"/>
                </a:solidFill>
                <a:latin typeface="Berlin Sans FB Demi"/>
                <a:ea typeface="Times New Roman"/>
              </a:rPr>
              <a:t>Introbio, Viale delle Vitto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2214720" y="357120"/>
            <a:ext cx="4429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Documents and Settings\User\Desktop\FOTO\foto open day 2014\2014-01-24 14.01.06.jpg"/>
          <p:cNvPicPr/>
          <p:nvPr/>
        </p:nvPicPr>
        <p:blipFill>
          <a:blip r:embed="rId1"/>
          <a:stretch/>
        </p:blipFill>
        <p:spPr>
          <a:xfrm>
            <a:off x="4714920" y="0"/>
            <a:ext cx="44290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0" y="2857680"/>
            <a:ext cx="47149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User\Desktop\FOTO\foto open day 2014\2014-01-24 13.57.41.jpg"/>
          <p:cNvPicPr/>
          <p:nvPr/>
        </p:nvPicPr>
        <p:blipFill>
          <a:blip r:embed="rId1"/>
          <a:stretch/>
        </p:blipFill>
        <p:spPr>
          <a:xfrm>
            <a:off x="0" y="0"/>
            <a:ext cx="4603680" cy="4071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User\Desktop\FOTO\foto open day 2014\2014-01-24 13.58.45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19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User\Desktop\FOTO\open day\IMG_0412.JPG"/>
          <p:cNvPicPr/>
          <p:nvPr/>
        </p:nvPicPr>
        <p:blipFill>
          <a:blip r:embed="rId3"/>
          <a:stretch/>
        </p:blipFill>
        <p:spPr>
          <a:xfrm>
            <a:off x="0" y="4071960"/>
            <a:ext cx="4572000" cy="278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4572000" y="3143160"/>
            <a:ext cx="4572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14920" cy="3357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0" y="3357720"/>
            <a:ext cx="5357880" cy="35002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4714920" y="0"/>
            <a:ext cx="4429080" cy="335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User\Desktop\open day ferraina\open day 2\Immagine 052.jpg"/>
          <p:cNvPicPr/>
          <p:nvPr/>
        </p:nvPicPr>
        <p:blipFill>
          <a:blip r:embed="rId4"/>
          <a:stretch/>
        </p:blipFill>
        <p:spPr>
          <a:xfrm>
            <a:off x="5357880" y="328608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User\Desktop\open day ferraina\open day 2\Immagine 041.jpg"/>
          <p:cNvPicPr/>
          <p:nvPr/>
        </p:nvPicPr>
        <p:blipFill>
          <a:blip r:embed="rId1"/>
          <a:stretch/>
        </p:blipFill>
        <p:spPr>
          <a:xfrm>
            <a:off x="0" y="0"/>
            <a:ext cx="4857840" cy="400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Documents and Settings\User\Desktop\open day ferraina\open day 2\Immagine 049.jpg"/>
          <p:cNvPicPr/>
          <p:nvPr/>
        </p:nvPicPr>
        <p:blipFill>
          <a:blip r:embed="rId2"/>
          <a:stretch/>
        </p:blipFill>
        <p:spPr>
          <a:xfrm>
            <a:off x="4857840" y="2786040"/>
            <a:ext cx="4262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4:51:43Z</dcterms:created>
  <dc:creator>*</dc:creator>
  <dc:description/>
  <dc:language>en-US</dc:language>
  <cp:lastModifiedBy>*</cp:lastModifiedBy>
  <dcterms:modified xsi:type="dcterms:W3CDTF">2014-02-04T16:27:45Z</dcterms:modified>
  <cp:revision>8</cp:revision>
  <dc:subject/>
  <dc:title>OPEN DAY   CREMENO  24 GENNAIO 2014</dc:title>
</cp:coreProperties>
</file>